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2ABF2-13B1-4F4D-8896-F5D763440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ACED1-8B18-4F0C-B47F-84888DD68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2800B-0787-4613-A720-8D287D0A2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61933-AF98-4BC5-B5D6-F8B1F72DF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C888E-BCCC-4192-A1BC-65127EDB1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BE546-01C4-46DB-B8DD-5477711AE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35D95-A82D-489E-B914-CFF4FA3A2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A158E-BF0F-4916-BC7E-544BAACB4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5AB36-440C-4E34-BBE9-46DA97F2B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D3D99-EB63-4EA7-B728-5FA3EAC37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0F886-0FEF-4D67-8B70-DE2FEED4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7724D-F93F-407A-A702-056701E55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053FC-129B-4CFB-9003-A6EEBD66D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23C72-6494-43F3-9496-4C253EE57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89727-3A24-4CDB-8D8D-9B4667EEC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4F713-FAFA-4D25-A434-BC2231AB6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6B98B-EECD-489E-AF2D-C899A067F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6EAF6-22D2-4A7A-A57D-2A052106F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93F30-9547-40EE-84C7-63A4C8418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191E7-BEBF-4BD1-B0B8-A8F03F13A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D66DA-FE7D-4B79-977F-B583BE1C6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F19BB-22E5-497F-A1CE-5BF7AED9E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32552-CAF5-4647-B506-D3A7EBD51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869A6-A67A-471D-BA21-E6ECAD22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7B673-C199-49E0-A1D5-51848E4847C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e0000"/>
                  </a:gs>
                  <a:gs pos="100000">
                    <a:srgbClr val="8c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e0000"/>
                  </a:gs>
                  <a:gs pos="100000">
                    <a:srgbClr val="8c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20000"/>
                  </a:gs>
                  <a:gs pos="100000">
                    <a:srgbClr val="8c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8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c0000"/>
                  </a:gs>
                  <a:gs pos="100000">
                    <a:srgbClr val="7a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6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c1f00"/>
                </a:gs>
                <a:gs pos="100000">
                  <a:srgbClr val="8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29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e796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2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e796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e0000"/>
                  </a:gs>
                  <a:gs pos="100000">
                    <a:srgbClr val="8c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e0000"/>
                  </a:gs>
                  <a:gs pos="100000">
                    <a:srgbClr val="8c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20000"/>
                  </a:gs>
                  <a:gs pos="100000">
                    <a:srgbClr val="8c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8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c0000"/>
                  </a:gs>
                  <a:gs pos="100000">
                    <a:srgbClr val="7a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6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c1f00"/>
                </a:gs>
                <a:gs pos="100000">
                  <a:srgbClr val="8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fd293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56B6F-FDF4-46C5-95B6-43D29B20A5B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dfd293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be796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43000" y="304920"/>
            <a:ext cx="6858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Garamond"/>
              </a:rPr>
              <a:t>Las comidas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548640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Garamond"/>
              </a:rPr>
              <a:t>By: Rachel Hicke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886200" y="1828800"/>
            <a:ext cx="3152880" cy="45147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0"/>
            <a:ext cx="769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cc"/>
                </a:solidFill>
                <a:latin typeface="Garamond"/>
              </a:rPr>
              <a:t>Para el desayuno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838080"/>
            <a:ext cx="601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Garamond"/>
              </a:rPr>
              <a:t>Me gusta com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52280" y="1600200"/>
            <a:ext cx="2743200" cy="18320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52280" y="35053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Garamond"/>
              </a:rPr>
              <a:t>El panqueq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3200400" y="1523880"/>
            <a:ext cx="2438280" cy="21067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276720" y="365760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Garamond"/>
              </a:rPr>
              <a:t>El hue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5791320" y="1523880"/>
            <a:ext cx="2666880" cy="19987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943600" y="3657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Garamond"/>
              </a:rPr>
              <a:t>El rosqui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1295280" y="4267080"/>
            <a:ext cx="2667240" cy="20019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371600" y="61722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Garamond"/>
              </a:rPr>
              <a:t>Rollos de cane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5410080" y="4173480"/>
            <a:ext cx="2819520" cy="21528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410080" y="624852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Garamond"/>
              </a:rPr>
              <a:t>Zumo de manza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52280" y="0"/>
            <a:ext cx="6629400" cy="36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Garamond"/>
              </a:rPr>
              <a:t>Para El almuzero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1295280"/>
            <a:ext cx="4419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77120" y="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Me gusta com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80880" y="1295280"/>
            <a:ext cx="3124440" cy="1764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57200" y="31240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Garamond"/>
              </a:rPr>
              <a:t>El Sándwi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3581280" y="1219320"/>
            <a:ext cx="2409840" cy="18856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114800" y="320040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Garamond"/>
              </a:rPr>
              <a:t>La fru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6095880" y="1219320"/>
            <a:ext cx="2667240" cy="19508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172200" y="32767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Garamond"/>
              </a:rPr>
              <a:t>Pizz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2362320" y="3581280"/>
            <a:ext cx="1768320" cy="21002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286000" y="579132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Garamond"/>
              </a:rPr>
              <a:t>La parrilla con que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5638680" y="3809880"/>
            <a:ext cx="2011320" cy="2219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562720" y="60958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Garamond"/>
              </a:rPr>
              <a:t>La limon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762120" y="380880"/>
            <a:ext cx="6324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cc33"/>
                </a:solidFill>
                <a:latin typeface="Garamond"/>
              </a:rPr>
              <a:t>Para la Cena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38080" y="121932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Garamond"/>
              </a:rPr>
              <a:t>Me gusta com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838080" y="1905120"/>
            <a:ext cx="2438640" cy="16732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914400" y="365760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La hamburgue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3505320" y="1981080"/>
            <a:ext cx="2590560" cy="19558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581280" y="39625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El biste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6248520" y="838080"/>
            <a:ext cx="2116080" cy="21243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6324480" y="29718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El pol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533520" y="3124080"/>
            <a:ext cx="2628720" cy="31006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914400" y="60199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Un ensalad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6"/>
          <a:stretch/>
        </p:blipFill>
        <p:spPr>
          <a:xfrm>
            <a:off x="3505320" y="4495680"/>
            <a:ext cx="2286000" cy="15242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505320" y="60199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Pas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7"/>
          <a:stretch/>
        </p:blipFill>
        <p:spPr>
          <a:xfrm>
            <a:off x="6781680" y="3352680"/>
            <a:ext cx="997200" cy="26002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705720" y="57913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Un coca co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752480" y="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El postre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304920" y="137160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04920" y="388620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Garamond"/>
              </a:rPr>
              <a:t>El past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3048120" y="1447920"/>
            <a:ext cx="3352680" cy="21654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971800" y="36576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Garamond"/>
              </a:rPr>
              <a:t>Las galle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6629400" y="380880"/>
            <a:ext cx="2206800" cy="27813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629400" y="32004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Garamond"/>
              </a:rPr>
              <a:t>Un hel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1828800" y="4191120"/>
            <a:ext cx="2647800" cy="22302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905120" y="64008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Garamond"/>
              </a:rPr>
              <a:t>El past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5410080" y="403848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5486400" y="61722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Garamond"/>
              </a:rPr>
              <a:t>Ensalada de fru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12:07:19Z</dcterms:created>
  <dc:creator>hickeyrac</dc:creator>
  <dc:description/>
  <dc:language>en-US</dc:language>
  <cp:lastModifiedBy>hickeyrac</cp:lastModifiedBy>
  <dcterms:modified xsi:type="dcterms:W3CDTF">2012-04-09T15:50:08Z</dcterms:modified>
  <cp:revision>8</cp:revision>
  <dc:subject/>
  <dc:title>Slide 1</dc:title>
</cp:coreProperties>
</file>